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9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14.wmf" ContentType="image/x-wmf"/>
  <Override PartName="/ppt/media/image3.gif" ContentType="image/gif"/>
  <Override PartName="/ppt/media/image11.wmf" ContentType="image/x-wmf"/>
  <Override PartName="/ppt/media/image17.jpeg" ContentType="image/jpeg"/>
  <Override PartName="/ppt/media/image10.wmf" ContentType="image/x-wmf"/>
  <Override PartName="/ppt/media/image6.jpeg" ContentType="image/jpeg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C2C0-7DDB-45A9-B40D-1BF4904AD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3906-2400-4E44-8AB4-FACF2964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90AB-7FAB-489E-9916-6913BF7B7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711A-C500-47AF-81F7-BB9389789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42AA-10C3-417D-9050-A3B2FB48C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1BC0-DD8C-4D8C-BCB4-0AB5961C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9F59-14C2-4FA0-B458-C00E10AA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19F1-F84D-416B-B70A-C2178511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5E1D-99EF-4BE8-B6E3-AABC55EC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2ACE-1198-414E-A06F-DC7F667E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7B54-6773-4AE2-9CB2-8DF48DF9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2107-D6AE-4042-B04F-1828AC4F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9D52-376A-4F18-AE06-D7CCDAFB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4FC7-6540-4615-9889-6F687189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EEB8-47F0-4218-A9BB-024D112E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6126F-1EE6-4641-9530-CA2235273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90B6-9D8C-47AA-B82A-11CEF867A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AEEC-2BA8-4431-9E5D-EE1492E7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6AB4-8F64-4A49-9878-0B391A25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6177-D4DA-464C-BA33-BE038A27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53A3-971D-4776-9698-3D064DBF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4340-7DB3-44A5-9B5B-1EA7CA4B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24DE-1C6B-4A6E-A758-CCBA4859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32E9-78F1-4360-A35B-68C23045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B5CB-C2B4-455E-9854-D0B6AAD387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208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0388-EA82-4BD5-8541-3EB465B8F8C5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Rosa and Blanca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Vocabulary and Amazing Word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Grade Read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3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dismay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feeling of deep disappointment and fea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1" name="Picture 5" descr="MCj03970880000[1]"/>
          <p:cNvPicPr/>
          <p:nvPr/>
        </p:nvPicPr>
        <p:blipFill>
          <a:blip r:embed="rId1"/>
          <a:stretch/>
        </p:blipFill>
        <p:spPr>
          <a:xfrm>
            <a:off x="3429000" y="3429000"/>
            <a:ext cx="2462040" cy="29653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6" descr="MCPE07010_0000[1]"/>
          <p:cNvPicPr/>
          <p:nvPr/>
        </p:nvPicPr>
        <p:blipFill>
          <a:blip r:embed="rId2"/>
          <a:stretch/>
        </p:blipFill>
        <p:spPr>
          <a:xfrm>
            <a:off x="1066680" y="3505320"/>
            <a:ext cx="2019600" cy="18716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7" descr="MCPE07009_0000[1]"/>
          <p:cNvPicPr/>
          <p:nvPr/>
        </p:nvPicPr>
        <p:blipFill>
          <a:blip r:embed="rId3"/>
          <a:stretch/>
        </p:blipFill>
        <p:spPr>
          <a:xfrm>
            <a:off x="6629400" y="3505320"/>
            <a:ext cx="16779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4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efficient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 get things done without wasting time or energ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6" name="Picture 4" descr="MCBD06517_0000[1]"/>
          <p:cNvPicPr/>
          <p:nvPr/>
        </p:nvPicPr>
        <p:blipFill>
          <a:blip r:embed="rId1"/>
          <a:stretch/>
        </p:blipFill>
        <p:spPr>
          <a:xfrm>
            <a:off x="2286000" y="3173400"/>
            <a:ext cx="480060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beam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 smile in a very happy wa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9" name="Picture 4" descr="MCj04238420000[1]"/>
          <p:cNvPicPr/>
          <p:nvPr/>
        </p:nvPicPr>
        <p:blipFill>
          <a:blip r:embed="rId1"/>
          <a:stretch/>
        </p:blipFill>
        <p:spPr>
          <a:xfrm>
            <a:off x="609480" y="3276720"/>
            <a:ext cx="1803600" cy="19494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5" descr="MCj04244820000[1]"/>
          <p:cNvPicPr/>
          <p:nvPr/>
        </p:nvPicPr>
        <p:blipFill>
          <a:blip r:embed="rId2"/>
          <a:stretch/>
        </p:blipFill>
        <p:spPr>
          <a:xfrm>
            <a:off x="6477120" y="3581280"/>
            <a:ext cx="1996920" cy="17719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6" descr="MPj04222980000[1]"/>
          <p:cNvPicPr/>
          <p:nvPr/>
        </p:nvPicPr>
        <p:blipFill>
          <a:blip r:embed="rId3"/>
          <a:stretch/>
        </p:blipFill>
        <p:spPr>
          <a:xfrm>
            <a:off x="3276720" y="2743200"/>
            <a:ext cx="25923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forever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ever ending; alway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4" name="Picture 4" descr="MCj04115660000[1]"/>
          <p:cNvPicPr/>
          <p:nvPr/>
        </p:nvPicPr>
        <p:blipFill>
          <a:blip r:embed="rId1"/>
          <a:stretch/>
        </p:blipFill>
        <p:spPr>
          <a:xfrm>
            <a:off x="3048120" y="3048120"/>
            <a:ext cx="313344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ituation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n act or happening; conditio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7" name="Picture 5" descr="MCj04323890000[1]"/>
          <p:cNvPicPr/>
          <p:nvPr/>
        </p:nvPicPr>
        <p:blipFill>
          <a:blip r:embed="rId1"/>
          <a:stretch/>
        </p:blipFill>
        <p:spPr>
          <a:xfrm>
            <a:off x="2666880" y="2743200"/>
            <a:ext cx="35816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 Black"/>
              </a:rPr>
              <a:t>tortillas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5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 Black"/>
              </a:rPr>
              <a:t>luckiest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5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 Black"/>
              </a:rPr>
              <a:t>chilies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ortillas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n, flat, round breads usually make of cornmeal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6" name="Picture 4" descr="MPj02626930000[1]"/>
          <p:cNvPicPr/>
          <p:nvPr/>
        </p:nvPicPr>
        <p:blipFill>
          <a:blip r:embed="rId1"/>
          <a:stretch/>
        </p:blipFill>
        <p:spPr>
          <a:xfrm>
            <a:off x="990720" y="3581280"/>
            <a:ext cx="3657600" cy="24256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" descr="MCFD00664_0000[1]"/>
          <p:cNvPicPr/>
          <p:nvPr/>
        </p:nvPicPr>
        <p:blipFill>
          <a:blip r:embed="rId2"/>
          <a:stretch/>
        </p:blipFill>
        <p:spPr>
          <a:xfrm>
            <a:off x="5486400" y="3733920"/>
            <a:ext cx="327672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luckiest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ne who has had the best fortun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Picture 4" descr="MMj02952290000[1]"/>
          <p:cNvPicPr/>
          <p:nvPr/>
        </p:nvPicPr>
        <p:blipFill>
          <a:blip r:embed="rId1"/>
          <a:stretch/>
        </p:blipFill>
        <p:spPr>
          <a:xfrm>
            <a:off x="3505320" y="2819520"/>
            <a:ext cx="2930400" cy="3448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hilies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Green or red pepper with a hot tast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3" name="Picture 5" descr="MCj02344840000[1]"/>
          <p:cNvPicPr/>
          <p:nvPr/>
        </p:nvPicPr>
        <p:blipFill>
          <a:blip r:embed="rId1"/>
          <a:stretch/>
        </p:blipFill>
        <p:spPr>
          <a:xfrm>
            <a:off x="5638680" y="3352680"/>
            <a:ext cx="2335320" cy="21862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MCj02961510000[1]"/>
          <p:cNvPicPr/>
          <p:nvPr/>
        </p:nvPicPr>
        <p:blipFill>
          <a:blip r:embed="rId2"/>
          <a:stretch/>
        </p:blipFill>
        <p:spPr>
          <a:xfrm>
            <a:off x="1143000" y="3733920"/>
            <a:ext cx="1870200" cy="1743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mazing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abundant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1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assist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1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generou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1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dismay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efficient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beam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forever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3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00"/>
                </a:solidFill>
                <a:latin typeface="Arial Black"/>
              </a:rPr>
              <a:t>situation</a:t>
            </a:r>
            <a:endParaRPr b="0" lang="en-US" sz="5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abundant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ore than enough or plent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0" name="Picture 4" descr="j0314326"/>
          <p:cNvPicPr/>
          <p:nvPr/>
        </p:nvPicPr>
        <p:blipFill>
          <a:blip r:embed="rId1"/>
          <a:stretch/>
        </p:blipFill>
        <p:spPr>
          <a:xfrm>
            <a:off x="2971800" y="2819520"/>
            <a:ext cx="3024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assist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 help someone do something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3" name="Picture 4" descr="MCj03590230000[1]"/>
          <p:cNvPicPr/>
          <p:nvPr/>
        </p:nvPicPr>
        <p:blipFill>
          <a:blip r:embed="rId1"/>
          <a:stretch/>
        </p:blipFill>
        <p:spPr>
          <a:xfrm>
            <a:off x="3048120" y="2514600"/>
            <a:ext cx="2887560" cy="3807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92" dur="2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enerous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 share with other people; unselfish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6" name="Picture 4" descr="MPj04227440000[1]"/>
          <p:cNvPicPr/>
          <p:nvPr/>
        </p:nvPicPr>
        <p:blipFill>
          <a:blip r:embed="rId1"/>
          <a:stretch/>
        </p:blipFill>
        <p:spPr>
          <a:xfrm>
            <a:off x="4343400" y="320040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5" descr="MCj02971410000[1]"/>
          <p:cNvPicPr/>
          <p:nvPr/>
        </p:nvPicPr>
        <p:blipFill>
          <a:blip r:embed="rId2"/>
          <a:stretch/>
        </p:blipFill>
        <p:spPr>
          <a:xfrm>
            <a:off x="457200" y="3429000"/>
            <a:ext cx="1959120" cy="13129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7" descr="MCj02818140000[1]"/>
          <p:cNvPicPr/>
          <p:nvPr/>
        </p:nvPicPr>
        <p:blipFill>
          <a:blip r:embed="rId3"/>
          <a:stretch/>
        </p:blipFill>
        <p:spPr>
          <a:xfrm>
            <a:off x="1981080" y="5029200"/>
            <a:ext cx="1812960" cy="1427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19:16:43Z</dcterms:created>
  <dc:creator>dyera</dc:creator>
  <dc:description/>
  <dc:language>en-US</dc:language>
  <cp:lastModifiedBy>teacher</cp:lastModifiedBy>
  <dcterms:modified xsi:type="dcterms:W3CDTF">2010-11-23T18:25:57Z</dcterms:modified>
  <cp:revision>3</cp:revision>
  <dc:subject/>
  <dc:title>Rosa and Blanca Vocabulary and Amazing Words</dc:title>
</cp:coreProperties>
</file>